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68D8-2325-45F8-BDCC-F34503E50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A57E-279D-45FD-B221-9C9D56044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3B6-1559-4B3A-BDB6-C4F4CFA1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BF2-61E5-49D1-BFC5-7ACFC76C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D61-B677-4E17-AEC1-7E6B06CF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411-E950-401E-BB7B-12AA02A8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7D3-35B3-466B-88C2-FDCBCCF1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239-ECE8-4451-BE50-DA79227B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A6E-BA12-43F4-8562-3B0C4C96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67C-C19C-4BE8-B16A-D894C574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473-92E4-4BA9-BA6A-104469B3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DFB-6890-4C00-A56A-1AACFDCF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276-8329-4883-BF85-BEED30CB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A96-6868-4785-A522-42A23DDE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F7F6-8B7D-4BD2-9B09-BF498B34E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3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Sou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803840" cy="768240"/>
            <a:chOff x="2743200" y="378000"/>
            <a:chExt cx="480384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80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803840" cy="768240"/>
            <a:chOff x="2743200" y="378000"/>
            <a:chExt cx="480384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80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803840" cy="768240"/>
            <a:chOff x="2743200" y="378000"/>
            <a:chExt cx="480384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80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2:15Z</dcterms:modified>
  <cp:revision>118</cp:revision>
  <dc:subject/>
  <dc:title>Museum of World Stuff</dc:title>
</cp:coreProperties>
</file>